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jpeg" ContentType="image/jpeg"/>
  <Override PartName="/ppt/media/image10.gif" ContentType="image/gif"/>
  <Override PartName="/ppt/media/image8.wmf" ContentType="image/x-wmf"/>
  <Override PartName="/ppt/media/image11.png" ContentType="image/png"/>
  <Override PartName="/ppt/media/image6.wmf" ContentType="image/x-wmf"/>
  <Override PartName="/ppt/media/image19.jpeg" ContentType="image/jpeg"/>
  <Override PartName="/ppt/media/image9.wmf" ContentType="image/x-wmf"/>
  <Override PartName="/ppt/media/image7.wmf" ContentType="image/x-wmf"/>
  <Override PartName="/ppt/media/image20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28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8A5-BCA2-464C-B414-39BE251B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22B-FE17-4765-8C49-79C83231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FAC-54AF-4BCC-81DF-18772BD9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83B-0ED0-4F27-91B4-2DDE8793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ED38-2D67-4824-B965-101BDB3B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A4CA-6AF3-434B-8202-2CB2460F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447-15F6-4D6A-89BA-93357E53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6E35-33B6-413C-A4E8-24BAEFC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79C9-0D1F-400B-9527-E3AB2562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6060-2450-4C03-9312-BA9105F9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4C3D-2115-4FA0-B70F-BD0949F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422-0B90-4761-8129-694A5E2A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38FF-A200-4C6F-BD2B-C49EDB9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90C3-27E6-41DA-99CB-8E54E94C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A027-E6C3-4419-9CDB-1FB41D66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8E7B-9ED5-4D52-BAD7-878AB194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7EA3-962A-419F-922A-F155043D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06BC-8BC2-4BF2-B7E0-2321BC5A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2A0C-9BE7-4E4B-B60E-19B7264D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FB42-4366-4799-B56E-03D62913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66F7-2DB8-4AB9-98F0-F6EB84BD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058C-C1C1-4220-9A00-BE12DD81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101-2176-45F6-9649-D016F9E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90F9-E6CD-4444-9490-006A1052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FBD0-95E3-4C85-95B9-8ED4CAE8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895B-38FD-4620-9931-3830767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4CE6-47AC-4980-B99A-467EAF07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A6E2-5058-49E5-A9A8-3AE1822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BCC3-D5CF-41F6-95F2-4B2625F4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E969-3201-4AC3-861E-58496D43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4AC-EE34-4DB6-8333-D2A50BA7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794-B610-4E10-8565-62BE641E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A9D-7D94-4C4C-B2AB-E8A95384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6E6-27DF-4966-8DC1-3DACA94F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41B-EF91-4C4F-A05D-F9896882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C7C-3E70-4414-AE8C-4B2ACCC7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05FA-D1B9-4C8D-83B6-A0AA2C16F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1017-49F2-49E8-9601-CC974387A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6F8D-D58C-4240-93FB-AB6C3133E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8840" indent="-34884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 и задачи дисципл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знакомить студентов с теоретическими и практическими сведениями, отражающими основные тенденции развития информатики. Обучение студентов основам алгоритмизации задач, принципам программирования на современных языках; изучение возможностей современных информационных технологий и перспектив их развития; изучение состояния и перспектив аппаратного и программного обеспечения компьютеров и компьютерных с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ределение академических ч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го 135 часов (3 креди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кций 5 ч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их занятий 25 ча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бораторные занятия 15*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СП ауд. – 15 часов, СРСП оф. – 15 час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О – 45 ч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а контроля – Экзамен, 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держание дисципл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форматика как единство науки и технологии. Элементы дискретной математики. Архитектура компьютера. Системы счисления. Алгоритмы и их свойства. Построение эффективных алгоритмов, оптимизация алгоритмов. Парадигмы программирования. Структура программ. Операционные системы. Работа в Интернет. Графические при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Дисциплина информати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 измеряется количество информации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Б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слишком мелкая единица измерения. На практике чаще применяется более крупная единица —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ай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равная восьми битам. Именно восемь битов требуется для того, чтобы закодировать любой из 256 символов алфавита клавиатуры компьютера (256=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ироко используются также ещё более крупные производные единицы информ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Килобайт (Кбайт) = 1024 байт = 210 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Мегабайт (Мбайт) = 1024 Кбайт = 220 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Гигабайт (Гбайт) = 1024 Мбайт = 230 б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оследнее время в связи с увеличением объёмов обрабатываемой информации входят в употребление такие производные единицы, к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Терабайт (Тбайт) = 1024 Гбайт = 240 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Петабайт (Пбайт) = 1024 Тбайт = 250 б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33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Что можно делать с информацией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2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а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риним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омин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им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пир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лиз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ростран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1484280"/>
            <a:ext cx="4562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образовы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биниро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баты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ить на ч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рощ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ир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мер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ть;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516720" y="4508640"/>
          <a:ext cx="1878120" cy="167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16720" y="4508640"/>
                    <a:ext cx="1878120" cy="16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907920" y="4435560"/>
          <a:ext cx="1774800" cy="1582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07920" y="4435560"/>
                    <a:ext cx="17748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635280" y="4508640"/>
          <a:ext cx="1866960" cy="161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4508640"/>
                    <a:ext cx="186696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32720" y="2421000"/>
          <a:ext cx="1793880" cy="1635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32720" y="2421000"/>
                    <a:ext cx="179388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ими свойствами обладает информация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овер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еврем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ткость;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73760" y="3860640"/>
            <a:ext cx="2120760" cy="21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остовер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я достоверна, если она отражает истинное положение дел. Недостоверная информация может привести к неправильному пониманию или принятию неправильных реш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стоверная информация со временем может стать недостоверной, так как она обладает свойством устаревать, то есть перестаёт отражать истинное положение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35280" y="5516640"/>
            <a:ext cx="2016360" cy="44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формация полна, если её достаточно для понимания и принятия решений. Как неполная, так и избыточная информация сдерживает принятие решений или может повлечь оши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3716280"/>
            <a:ext cx="3600360" cy="234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оч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чность информации определяется степенью ее близости к реальному состоянию объекта, процесса, явления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48000" y="3500280"/>
            <a:ext cx="2833560" cy="227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н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Ценность информации зависит от того, насколько она важна для решения задачи, а также от того, насколько в дальнейшем она найдёт применение в каких-либо видах деятельности челове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Только своевременно полученная информация может принести ожидаемую пользу. Одинаково нежелательны как преждевременная подача информации (когда она ещё не может быть усвоена), так и её задерж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Если ценная и своевременная информация выражена непонятным образом, она может стать бесполез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2718000" cy="161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нят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формация становится понятной, если она выражена языком, на котором говорят те, кому предназначена эта информ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3168720" cy="302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оступ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я должна преподноситься в доступной (по уровню восприятия) форме. Поэтому одни и те же вопросы по разному излагаются в школьных учебниках и научных издания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219640" y="3284640"/>
            <a:ext cx="3024360" cy="276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ратк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ю по одному и тому же вопросу можно изложить кратко (сжато, без несущественных деталей) или пространно (подробно, многословно). Краткость информации необходима в справочниках, энциклопедиях, учебниках, всевозможных инструк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148896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етисян Р.Д., Аветисян Д.Д.,Теоретические основы информатики – М:Наука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адьев В.З. и др. Основы информатики. – М.: Филин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карова Н. В., Матвеев Л. А., Бройдо В. Л. и др. Информатика –М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тика / Под ред. С. В. Симоновича. -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исеев А.В. Информатика. - М.: Академия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ймин В.А. Информатика. Учебник. Москва. ИНФРА-М.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тика. Учебник под ред. Проф. Макаровой Н.В,/М., 20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rosoft Excel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г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,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., 2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е и финансовые расчеты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ce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Санкт-Петербург, Москва-Киев-Харьков-Минск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Список рекомендуемой литератур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Что такое обработка информации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Обработка информаци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получение одних информационных объектов из других информационных объектов путем выполнения некоторых алгоритм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бработка является одной из основных операций, выполняемых над информацией, и главным средством увеличения объёма и разнообразия информ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56360" y="479736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редства обработки информац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а обработки информации — это всевозможные устройства и системы, созданные человечеством, и в первую очере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ьютер – как основное средство обработки информации можно рассматривать в двух аспек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средства (Hardwa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е средства (Softwa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752840" cy="1254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143000" cy="1079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84360" y="3645000"/>
            <a:ext cx="998280" cy="1523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rcRect l="0" t="8018" r="0" b="11783"/>
          <a:stretch/>
        </p:blipFill>
        <p:spPr>
          <a:xfrm>
            <a:off x="5219640" y="4508640"/>
            <a:ext cx="1639800" cy="152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619280" y="5084640"/>
            <a:ext cx="1066680" cy="1130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3095640" y="5105520"/>
            <a:ext cx="1476360" cy="936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1763640" y="400536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659640" y="3357720"/>
            <a:ext cx="1655640" cy="126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1280" y="24382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обрабатывают информацию путем выполнения некоторых алгорит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ивые организмы и растения обрабатывают информацию с помощью своих органов и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75240" y="0"/>
            <a:ext cx="2768760" cy="2400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2307960" cy="1924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2430360" cy="206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Что такое информационные ресурсы?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нформационные ресур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идеи человечества и указания по их реализации, накопленные в форме, позволяющей их воспроизводство. Это книги, статьи, патенты, диссертации, научно-исследовательская и опытно-конструкторская документация, технические переводы, данные о передовом производственном опыте и д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ормационные ресурсы (в отличие от всех других видов ресурсов — трудовых, энергетических, минеральных и т.д.) тем быстрее растут, чем больше их расходу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Что такое информационные технологии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нформационная технолог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совокупность методов и устройств, используемых людьми для обработки информации. Человечество занималось обработкой информации тысячи лет. Первые информационные технологии основывались на использо-вании счётов и письменности. Около пятидесяти лет назад началось исключительно быстрое развитие этих технологий, что в первую очередь связано с появлением компьюте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термин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информационная технология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потребляется в связи с использованием компьютеров для обработки информации. Информационные технологии охватывают всю вычислительную технику и технику связи и, отчасти, — бытовую электронику, телевидение и радиовещ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Что понимают под информатизацией обществ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Информатизация обще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организованный социально-экономический и научно-технический процесс создания оптимальных условий для удовлетворения информационных потребностей и реализации прав граждан, органов государственной власти, органов местного самоуправления организаций, общественных объединений на основе формирования и использования информационных ресурсов. Цель информатизации — улучшение качества жизни людей за счет увеличения производительности и облегчения условий их тру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Информатиз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это сложный социальный процесс, связанный со значительными изменениями в образе жизни населения. Он требует серьёзных усилий на многих направлениях, включая ликвидацию компьютерной неграмотности, формирование культуры использования новых информационных технолог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Лекция по информатике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Основные понятия инфор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55897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информатики и математики Абдрахманова Асель Бексеит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нятие информа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нятие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ды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диницы измерения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ойства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онные ресурсы и информатизация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Что такое Информатика?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79246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"информатика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франц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informatiq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происходит от французских сл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информация)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automatiq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втоматика) и дословно означа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нформационная автомат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omputer science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что означает букваль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пьютерная нау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фоpма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728720" cy="192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24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научная дисциплина с широчайшим диапазоном приме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ё основные направл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азpаботка вычислительных систем и пpогpаммного обесп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 информации, изучающая процессы, связанные с передачей, приёмом, преобразованием и хранением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ы искусственного интеллекта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ный анализ, заключающийся в анализе назначения проектируемой системы и в установлении требований, которым она должна отвеч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ы машинной графики, анимации, средства мультимеди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а телекоммуникации, в том числе, глобальные компьютерные сети, объединяющие всё человечество в единое информационное сообще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нообразные приложения, охватывающие производство, науку, образование, медицину, торговлю, сельское хозяйство и все другие виды хозяйственной и обще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Что такое информация?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925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нформац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исходит от латинского слова "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nformati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, что означае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зъяс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злож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это настолько общее и глубокое понятие, что его нельзя объяснить одной фразой. В это слово вкладывается различный смысл в технике, науке и в житейских ситу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В каком виде существует информация?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иде текстов, рисунков, чертежей, фотограф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иде световых или звуковых сиг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иде радиовол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иде электрических и нервных импуль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иде магнитных запис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иде жестов и мим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иде запахов и вкусовых ощущ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иде хромосом, посредством которых передаются по наследству признаки и свойства организмов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93080" y="3284640"/>
          <a:ext cx="1123920" cy="76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284640"/>
                    <a:ext cx="112392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169040" y="3970440"/>
          <a:ext cx="14479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9040" y="3970440"/>
                    <a:ext cx="1447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308720" y="1989000"/>
          <a:ext cx="12286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1989000"/>
                    <a:ext cx="1228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Как передаётся информация?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я передаётся в виде сообщений от некоторого источника информации к её приёмнику посредством канала связи между ними. Источник посылает передаваемое сообщение, которое кодируется в передаваемый сигнал. Этот сигнал посылается по каналу связи. В результате в приёмнике появляется принимаемый сигнал, который декодируется и становится принимаемым сообщением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0af6"/>
                </a:solidFill>
                <a:latin typeface="Times New Roman"/>
              </a:rPr>
              <a:t>ИСТОЧНИК——канал связи ———ПРИЁМ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0:26:24Z</dcterms:created>
  <dc:creator>User</dc:creator>
  <dc:description/>
  <dc:language>en-US</dc:language>
  <cp:lastModifiedBy>User</cp:lastModifiedBy>
  <dcterms:modified xsi:type="dcterms:W3CDTF">2011-09-04T18:25:22Z</dcterms:modified>
  <cp:revision>6</cp:revision>
  <dc:subject/>
  <dc:title>Лекция по информатике</dc:title>
</cp:coreProperties>
</file>